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DE13BC43-9B2D-4C54-848E-6E21942176F7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6C6DE565-258F-4F02-BA8D-C9E6B19E1C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C73912E3-F5F5-4CAB-B018-D4DE50324D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D46D86C9-FB15-4B18-BD5F-261CC9B14D5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76E-46B3-4E85-BD9F-86744DD9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D6A-59B1-416C-AA12-03C8123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F5E-9665-4429-85F2-43085C98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A1F-6F67-4D04-ABE5-12F0AACC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23FE-CC58-4A97-B7EF-250D8913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553-3841-4407-9DE6-2B444BA7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D5D1-A062-47DD-8A7E-7EDE95F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D85-4055-490D-BF56-DDE8E93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98B4-668F-423F-9B81-2E263779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589-6D7E-480C-BDCC-5142FF8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1361-0153-4CA3-BCBC-5BE4FD9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B1B-F10D-40AE-9801-96E094F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EE99-C492-411D-A21F-C7358EE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4F79-3084-4378-A747-F63FAA0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DBA2-83A8-471C-AF9B-62C540FA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2B4-33BA-4AD4-BF59-71F46FB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E52-B62C-4986-847A-F984CB15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B332-C01A-40D9-AFA5-12CA6F39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D779-CADF-4E00-8710-36C187D6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8A7E-59C7-4F67-8498-090F2B3E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2595-DB62-48CE-9318-D92CFFA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B896-1188-4F4F-9FC9-3D8AB46D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F2C-F7B7-4753-9C03-45ADE55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F4B1-50BE-426D-B28F-29F4B810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B80F-3316-457D-A6A3-6615851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DE22-6B33-410A-88DB-92843F6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EDCC-22DF-458F-8C37-F781BF3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B587-A3C6-45F4-91EE-9A0997FB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04F8-82D0-4DF8-AF7F-7A9415F4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90F3-685D-4947-9914-F2C5B64A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543-FCE8-4691-8C2B-BD166B4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5DC-4F63-4E99-B1F5-62C1A39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9FF-D415-438C-B344-DFC7DB91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AF9-DFF2-4F7F-9A31-5607256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118-D181-491B-9643-716A25B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8F7-93E8-41DF-A991-DA8986B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orkshop KINGjaarcongres 06 januar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0E91B-A1DB-4609-BA8E-7F9E6E09E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BA27-E11D-4E23-8E37-EBB2A89DCD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094.1010_KING_Tite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B127B-3DE8-4EC4-BECC-55EB96BC11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9280" y="3095280"/>
            <a:ext cx="66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Vaststelling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UF Compliancy 2.1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voor softwareproduc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Plaats&gt;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Datum&gt;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oces melden van afw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hthoek 3"/>
          <p:cNvSpPr/>
          <p:nvPr/>
        </p:nvSpPr>
        <p:spPr>
          <a:xfrm>
            <a:off x="2354400" y="112536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kstvak 5"/>
          <p:cNvSpPr/>
          <p:nvPr/>
        </p:nvSpPr>
        <p:spPr>
          <a:xfrm>
            <a:off x="2138400" y="1249200"/>
            <a:ext cx="187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voer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productportfolio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ftwarecatalogu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hthoek 5"/>
          <p:cNvSpPr/>
          <p:nvPr/>
        </p:nvSpPr>
        <p:spPr>
          <a:xfrm>
            <a:off x="2354400" y="3645000"/>
            <a:ext cx="1441440" cy="93636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kstvak 9"/>
          <p:cNvSpPr/>
          <p:nvPr/>
        </p:nvSpPr>
        <p:spPr>
          <a:xfrm>
            <a:off x="2138400" y="378936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Diagnose 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terugkoppel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hthoek 7"/>
          <p:cNvSpPr/>
          <p:nvPr/>
        </p:nvSpPr>
        <p:spPr>
          <a:xfrm>
            <a:off x="2354400" y="234936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kstvak 12"/>
          <p:cNvSpPr/>
          <p:nvPr/>
        </p:nvSpPr>
        <p:spPr>
          <a:xfrm>
            <a:off x="2138400" y="256536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ompliancy-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teste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hthoek 9"/>
          <p:cNvSpPr/>
          <p:nvPr/>
        </p:nvSpPr>
        <p:spPr>
          <a:xfrm>
            <a:off x="2354400" y="4941720"/>
            <a:ext cx="1441440" cy="93528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kstvak 15"/>
          <p:cNvSpPr/>
          <p:nvPr/>
        </p:nvSpPr>
        <p:spPr>
          <a:xfrm>
            <a:off x="2138400" y="522936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Melden herst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hthoek 11"/>
          <p:cNvSpPr/>
          <p:nvPr/>
        </p:nvSpPr>
        <p:spPr>
          <a:xfrm>
            <a:off x="4299120" y="3645000"/>
            <a:ext cx="1439640" cy="93636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kstvak 21"/>
          <p:cNvSpPr/>
          <p:nvPr/>
        </p:nvSpPr>
        <p:spPr>
          <a:xfrm>
            <a:off x="4083120" y="3716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Beoordeling 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evt. aanduid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hthoek 13"/>
          <p:cNvSpPr/>
          <p:nvPr/>
        </p:nvSpPr>
        <p:spPr>
          <a:xfrm>
            <a:off x="4299120" y="4941720"/>
            <a:ext cx="1439640" cy="93528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kstvak 27"/>
          <p:cNvSpPr/>
          <p:nvPr/>
        </p:nvSpPr>
        <p:spPr>
          <a:xfrm>
            <a:off x="4083120" y="501336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heffen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anduid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hoek 15"/>
          <p:cNvSpPr/>
          <p:nvPr/>
        </p:nvSpPr>
        <p:spPr>
          <a:xfrm>
            <a:off x="5667480" y="1125360"/>
            <a:ext cx="1439640" cy="9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kstvak 30"/>
          <p:cNvSpPr/>
          <p:nvPr/>
        </p:nvSpPr>
        <p:spPr>
          <a:xfrm>
            <a:off x="5451480" y="1197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Publicati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ftware-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talogu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hthoek 17"/>
          <p:cNvSpPr/>
          <p:nvPr/>
        </p:nvSpPr>
        <p:spPr>
          <a:xfrm>
            <a:off x="50760" y="3068640"/>
            <a:ext cx="1440000" cy="936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kstvak 43"/>
          <p:cNvSpPr/>
          <p:nvPr/>
        </p:nvSpPr>
        <p:spPr>
          <a:xfrm>
            <a:off x="-165240" y="3284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Melden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fwijki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keraccolade 19"/>
          <p:cNvSpPr/>
          <p:nvPr/>
        </p:nvSpPr>
        <p:spPr>
          <a:xfrm>
            <a:off x="7394400" y="907920"/>
            <a:ext cx="144720" cy="1297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297080"/>
              <a:gd name="textAreaBottom" fmla="*/ 129348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36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5" name="Rechte verbindingslijn met pijl 20"/>
          <p:cNvCxnSpPr/>
          <p:nvPr/>
        </p:nvCxnSpPr>
        <p:spPr>
          <a:xfrm>
            <a:off x="3795480" y="1557000"/>
            <a:ext cx="187236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6" name="Rechte verbindingslijn met pijl 21"/>
          <p:cNvCxnSpPr>
            <a:stCxn id="172" idx="3"/>
          </p:cNvCxnSpPr>
          <p:nvPr/>
        </p:nvCxnSpPr>
        <p:spPr>
          <a:xfrm>
            <a:off x="1490400" y="3536640"/>
            <a:ext cx="864360" cy="54036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7" name="Rechte verbindingslijn met pijl 22"/>
          <p:cNvCxnSpPr/>
          <p:nvPr/>
        </p:nvCxnSpPr>
        <p:spPr>
          <a:xfrm>
            <a:off x="3795840" y="4076280"/>
            <a:ext cx="50400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8" name="Rechte verbindingslijn met pijl 23"/>
          <p:cNvCxnSpPr/>
          <p:nvPr/>
        </p:nvCxnSpPr>
        <p:spPr>
          <a:xfrm>
            <a:off x="3795840" y="5373360"/>
            <a:ext cx="504000" cy="1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79" name="Gebogen verbindingslijn 61"/>
          <p:cNvCxnSpPr>
            <a:endCxn id="170" idx="2"/>
          </p:cNvCxnSpPr>
          <p:nvPr/>
        </p:nvCxnSpPr>
        <p:spPr>
          <a:xfrm flipV="1">
            <a:off x="3795840" y="2059920"/>
            <a:ext cx="2591280" cy="810360"/>
          </a:xfrm>
          <a:prstGeom prst="bentConnector2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80" name="Gebogen verbindingslijn 25"/>
          <p:cNvCxnSpPr>
            <a:endCxn id="170" idx="2"/>
          </p:cNvCxnSpPr>
          <p:nvPr/>
        </p:nvCxnSpPr>
        <p:spPr>
          <a:xfrm flipH="1" flipV="1" rot="5400000">
            <a:off x="5007960" y="2789640"/>
            <a:ext cx="2107440" cy="648360"/>
          </a:xfrm>
          <a:prstGeom prst="bentConnector3">
            <a:avLst>
              <a:gd name="adj1" fmla="val -119"/>
            </a:avLst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cxnSp>
        <p:nvCxnSpPr>
          <p:cNvPr id="181" name="Gebogen verbindingslijn 26"/>
          <p:cNvCxnSpPr>
            <a:endCxn id="170" idx="2"/>
          </p:cNvCxnSpPr>
          <p:nvPr/>
        </p:nvCxnSpPr>
        <p:spPr>
          <a:xfrm flipH="1" flipV="1" rot="5400000">
            <a:off x="4360320" y="3437280"/>
            <a:ext cx="3402720" cy="648360"/>
          </a:xfrm>
          <a:prstGeom prst="bentConnector3">
            <a:avLst>
              <a:gd name="adj1" fmla="val 1682"/>
            </a:avLst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sp>
        <p:nvSpPr>
          <p:cNvPr id="182" name="Rechthoek 27"/>
          <p:cNvSpPr/>
          <p:nvPr/>
        </p:nvSpPr>
        <p:spPr>
          <a:xfrm>
            <a:off x="6980400" y="5229360"/>
            <a:ext cx="360360" cy="21564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hthoek 28"/>
          <p:cNvSpPr/>
          <p:nvPr/>
        </p:nvSpPr>
        <p:spPr>
          <a:xfrm>
            <a:off x="6980400" y="5516640"/>
            <a:ext cx="360360" cy="2160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kstvak 73"/>
          <p:cNvSpPr/>
          <p:nvPr/>
        </p:nvSpPr>
        <p:spPr>
          <a:xfrm>
            <a:off x="7377120" y="5210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KIN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Leverancier e/o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drachtgev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hthoek 30"/>
          <p:cNvSpPr/>
          <p:nvPr/>
        </p:nvSpPr>
        <p:spPr>
          <a:xfrm>
            <a:off x="50760" y="4437000"/>
            <a:ext cx="1440000" cy="936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Signaal verbands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control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6" name="Rechte verbindingslijn met pijl 31"/>
          <p:cNvCxnSpPr>
            <a:stCxn id="185" idx="3"/>
          </p:cNvCxnSpPr>
          <p:nvPr/>
        </p:nvCxnSpPr>
        <p:spPr>
          <a:xfrm flipV="1">
            <a:off x="1490400" y="4220280"/>
            <a:ext cx="864360" cy="685080"/>
          </a:xfrm>
          <a:prstGeom prst="straightConnector1">
            <a:avLst/>
          </a:prstGeom>
          <a:ln w="15840">
            <a:solidFill>
              <a:srgbClr val="f36f33"/>
            </a:solidFill>
            <a:miter/>
            <a:tailEnd len="med" type="arrow" w="med"/>
          </a:ln>
        </p:spPr>
      </p:cxnSp>
      <p:pic>
        <p:nvPicPr>
          <p:cNvPr id="187" name="Picture 2" descr=""/>
          <p:cNvPicPr/>
          <p:nvPr/>
        </p:nvPicPr>
        <p:blipFill>
          <a:blip r:embed="rId1"/>
          <a:srcRect l="62762" t="33500" r="9499" b="2810"/>
          <a:stretch/>
        </p:blipFill>
        <p:spPr>
          <a:xfrm>
            <a:off x="7467480" y="981000"/>
            <a:ext cx="1405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24320" y="4967280"/>
            <a:ext cx="3457440" cy="1422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compliancy (1.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oel: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uren op kwalitatief goede inbouw va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StUF standaard in softwareproducte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aarom: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UF Compliancy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isen ‘StUF compliant’ vastgesteld in StUF Regiegroep 6 april 2011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nzicht geven in StUF productportfolio (StUF Productoverzic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XML schema-validatie minimale kwaliteitse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cedure en voorwaarden om afwijkingen te melden: Gevarendriekhoekprocedure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7176960" y="4859280"/>
            <a:ext cx="905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tUF compliancy 2.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Update StUF compliancy vanwege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UF Testplat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mma Softwarecatalo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spraken (convenant) met 80 leveranc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Aanscherping definitie ‘StUF compliant’ voor softwareproducten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d0c8b"/>
                </a:solidFill>
                <a:latin typeface="Verdana"/>
              </a:rPr>
              <a:t>Wijzigingen voorwaarden en procedure melden van afwijking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stel StUF Compli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000" y="1152000"/>
            <a:ext cx="84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Een StUF koppeling in een softwareproduct is ‘StUF compliant’ indien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StUF koppeling voldoet aan de regels en eisen die vanuit de StUF standaard gesteld worden en van toepassing zij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 een representatieve test is uitgevoerd om de StUF koppeling te testen. Indien beschikbaar dient de standaard testset te worden gebruik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representatieve test is uitgevoerd met het voorgeschreven testinstr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resultaten van de test openbaar zijn en beschikbaar gemaakt via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6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sl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kkoord op beschrijving StUF Compliancy versie 2.1 dd 28 november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angt versie 1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anging StUF productoverzicht door GEMMA softwarecatalo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0520" y="3524400"/>
            <a:ext cx="6624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UF Complianc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andaard test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Plaats&gt;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Datum&gt;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standaardiseerde Tests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Operatie NUP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anvullende compliancy instrume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standaardiseerde tes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ed0c8b"/>
                </a:solidFill>
                <a:latin typeface="Verdana"/>
              </a:rPr>
              <a:t>Proces van opstellen en vaststellen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estset beschrijft testscope en testscenario’s op basis van een standa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ING stelt testset op voor belangrijke gemeentelijke ketens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zoals Top10 OperatieNU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levante leveranciers beoordelen en verbeteren test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ING stelt testset v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d0c8b"/>
                </a:solidFill>
                <a:latin typeface="Verdana"/>
              </a:rPr>
              <a:t>Gebruik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anciers gebruiken standaard testset om compliancy tests uit te vo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standaardiseerde Tests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048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Vraag aan StUF Regiegroep:</a:t>
            </a:r>
            <a:endParaRPr b="1" lang="en-US" sz="2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kkoord op proces voor het opstellen en vaststellen van gestandaardiseerde testsets d.d.8 oktober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Hulpsheets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6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4:49:12Z</dcterms:created>
  <dc:creator>user</dc:creator>
  <dc:description/>
  <dc:language>en-US</dc:language>
  <cp:lastModifiedBy>Peter Klaver</cp:lastModifiedBy>
  <cp:lastPrinted>2011-01-16T10:24:48Z</cp:lastPrinted>
  <dcterms:modified xsi:type="dcterms:W3CDTF">2012-12-03T16:13:48Z</dcterms:modified>
  <cp:revision>329</cp:revision>
  <dc:subject/>
  <dc:title>Slide 1</dc:title>
</cp:coreProperties>
</file>